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914-3FCB-48BB-AA7D-B3EF2467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D28-88AD-46DE-9290-01F4B85B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1C4-6FF5-499B-A80B-3DD0568F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639-A761-4528-AA79-CC7EFAE4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360-9EB0-4FC4-A0BA-34597A66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965-936A-4451-85D9-B4A6EBA4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E36-1141-4B3F-A7DF-45CF2B53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733-629D-44D0-9635-AB37E511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297-9447-45AA-BB4F-CEC69993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CBD-F585-4873-9A7E-8F74DD2E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7EE-914F-4EFE-8911-DEDB7278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F85-1318-4334-90C8-C52FD993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8E64-54C8-4188-98D6-268194D393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b7e7ff"/>
                </a:solidFill>
                <a:latin typeface="Arial"/>
              </a:rPr>
              <a:t>Микрофлора воздуха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214560" y="856800"/>
            <a:ext cx="350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плохой микрофлоры воздуха  нам  полностью никогда не избавиться. Но всё же воздух нужно очища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10" descr="1284126280_20721_b"/>
          <p:cNvPicPr/>
          <p:nvPr/>
        </p:nvPicPr>
        <p:blipFill>
          <a:blip r:embed="rId1"/>
          <a:stretch/>
        </p:blipFill>
        <p:spPr>
          <a:xfrm>
            <a:off x="285840" y="4162320"/>
            <a:ext cx="3593880" cy="269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202552_83156-700x500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33116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9"/>
          <p:cNvSpPr/>
          <p:nvPr/>
        </p:nvSpPr>
        <p:spPr>
          <a:xfrm>
            <a:off x="4357800" y="4500720"/>
            <a:ext cx="47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амые распространённые способы, это – растения воздухоочистители, проветривание и частая уборка кварти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3"/>
          <a:stretch/>
        </p:blipFill>
        <p:spPr>
          <a:xfrm>
            <a:off x="3071880" y="1500120"/>
            <a:ext cx="3846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90000"/>
            <a:ext cx="392904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b0f0"/>
                </a:solidFill>
                <a:latin typeface="Arial"/>
              </a:rPr>
              <a:t>Наиболее чист воздух над лесами, горами, снежными простор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russkaya-zima-oboi-dlya-rabochego-stola"/>
          <p:cNvPicPr/>
          <p:nvPr/>
        </p:nvPicPr>
        <p:blipFill>
          <a:blip r:embed="rId1"/>
          <a:stretch/>
        </p:blipFill>
        <p:spPr>
          <a:xfrm>
            <a:off x="214200" y="2857680"/>
            <a:ext cx="4959360" cy="3719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0_12135_a6797fc4_XL"/>
          <p:cNvPicPr/>
          <p:nvPr/>
        </p:nvPicPr>
        <p:blipFill>
          <a:blip r:embed="rId2"/>
          <a:stretch/>
        </p:blipFill>
        <p:spPr>
          <a:xfrm>
            <a:off x="3981600" y="214200"/>
            <a:ext cx="4906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ентацию выполнил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ирнова Анна  ученица 7 г класс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а Ольга ученица 3 г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га - 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10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икрофлора воздуха зависит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от микрофлоры воды и почвы, над которыми расположены слои воздух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4714920" y="357120"/>
            <a:ext cx="4097160" cy="409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370879919_1503505322"/>
          <p:cNvPicPr/>
          <p:nvPr/>
        </p:nvPicPr>
        <p:blipFill>
          <a:blip r:embed="rId2"/>
          <a:stretch/>
        </p:blipFill>
        <p:spPr>
          <a:xfrm>
            <a:off x="214200" y="3643200"/>
            <a:ext cx="437544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35719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ибольшее количество микробов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содержится в воздухе промышленных гор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460b29325787d"/>
          <p:cNvPicPr/>
          <p:nvPr/>
        </p:nvPicPr>
        <p:blipFill>
          <a:blip r:embed="rId1"/>
          <a:stretch/>
        </p:blipFill>
        <p:spPr>
          <a:xfrm>
            <a:off x="285840" y="3214800"/>
            <a:ext cx="4483080" cy="336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endh1"/>
          <p:cNvPicPr/>
          <p:nvPr/>
        </p:nvPicPr>
        <p:blipFill>
          <a:blip r:embed="rId2"/>
          <a:stretch/>
        </p:blipFill>
        <p:spPr>
          <a:xfrm>
            <a:off x="3571920" y="285840"/>
            <a:ext cx="53118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45720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 кашле, чихании в возду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ыбрасываются мельчайшие капельки-аэрозоли, содержащие возбудителей заболеваний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cough"/>
          <p:cNvPicPr/>
          <p:nvPr/>
        </p:nvPicPr>
        <p:blipFill>
          <a:blip r:embed="rId1"/>
          <a:stretch/>
        </p:blipFill>
        <p:spPr>
          <a:xfrm>
            <a:off x="4714920" y="0"/>
            <a:ext cx="4029120" cy="3392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lu-842117397"/>
          <p:cNvPicPr/>
          <p:nvPr/>
        </p:nvPicPr>
        <p:blipFill>
          <a:blip r:embed="rId2"/>
          <a:stretch/>
        </p:blipFill>
        <p:spPr>
          <a:xfrm>
            <a:off x="285840" y="3598920"/>
            <a:ext cx="54385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500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ровень микробного загрязнения зависит главным образом от  активности движения людей, санитарного состояния помещ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car-exhaust-fumes"/>
          <p:cNvPicPr/>
          <p:nvPr/>
        </p:nvPicPr>
        <p:blipFill>
          <a:blip r:embed="rId1"/>
          <a:stretch/>
        </p:blipFill>
        <p:spPr>
          <a:xfrm>
            <a:off x="4389480" y="285840"/>
            <a:ext cx="4754520" cy="314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b-pg3ho070"/>
          <p:cNvPicPr/>
          <p:nvPr/>
        </p:nvPicPr>
        <p:blipFill>
          <a:blip r:embed="rId2"/>
          <a:stretch/>
        </p:blipFill>
        <p:spPr>
          <a:xfrm>
            <a:off x="0" y="3000240"/>
            <a:ext cx="5359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нтересные факты о пыли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4143240" cy="60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В плотно запертой с закрытыми окнами квартире за две недели оседает порядка 12 тысяч пылевых частиц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dom-pyl-v-dome"/>
          <p:cNvPicPr/>
          <p:nvPr/>
        </p:nvPicPr>
        <p:blipFill>
          <a:blip r:embed="rId1"/>
          <a:stretch/>
        </p:blipFill>
        <p:spPr>
          <a:xfrm>
            <a:off x="0" y="3695760"/>
            <a:ext cx="4214880" cy="316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214880" y="1071720"/>
          <a:ext cx="4929120" cy="4206600"/>
        </p:xfrm>
        <a:graphic>
          <a:graphicData uri="http://schemas.openxmlformats.org/drawingml/2006/table">
            <a:tbl>
              <a:tblPr/>
              <a:tblGrid>
                <a:gridCol w="2463840"/>
                <a:gridCol w="2465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этой пыл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и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 1 кв.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изонтальной  поверх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минеральных части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35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текстильных и бумажных волок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12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чешуек ко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19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цветочной пыльц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7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частиц сажи и ды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3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Оставшиеся неустановленного происхождения, космическая пы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4 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785920" y="2714400"/>
            <a:ext cx="3357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обыкновенная пы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тор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нас дома, увеличенная в 115 ра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в цветовой     обработке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0" y="357120"/>
            <a:ext cx="58467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36432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babaff"/>
                </a:solidFill>
                <a:latin typeface="Arial"/>
              </a:rPr>
              <a:t>Это… клещи — микроскопические живые существа, живущие в домашней пы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3"/>
          <p:cNvPicPr/>
          <p:nvPr/>
        </p:nvPicPr>
        <p:blipFill>
          <a:blip r:embed="rId1"/>
          <a:stretch/>
        </p:blipFill>
        <p:spPr>
          <a:xfrm>
            <a:off x="3686040" y="285840"/>
            <a:ext cx="5457960" cy="3214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4"/>
          <p:cNvPicPr/>
          <p:nvPr/>
        </p:nvPicPr>
        <p:blipFill>
          <a:blip r:embed="rId2"/>
          <a:stretch/>
        </p:blipFill>
        <p:spPr>
          <a:xfrm>
            <a:off x="0" y="3571920"/>
            <a:ext cx="4930920" cy="32860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6"/>
          <p:cNvSpPr/>
          <p:nvPr/>
        </p:nvSpPr>
        <p:spPr>
          <a:xfrm>
            <a:off x="5143680" y="3786120"/>
            <a:ext cx="4000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abaff"/>
                </a:solidFill>
                <a:latin typeface="Arial"/>
              </a:rPr>
              <a:t>Их около пятидесяти видов, и питаются они омертвевшими чешуйками человеческой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1680" y="333000"/>
            <a:ext cx="42703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8bd8ff"/>
                </a:solidFill>
                <a:latin typeface="Arial"/>
              </a:rPr>
              <a:t>Вдыхая пыль, вы наносите легким вред, равный половине выкуренной сигаре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image001(1)"/>
          <p:cNvPicPr/>
          <p:nvPr/>
        </p:nvPicPr>
        <p:blipFill>
          <a:blip r:embed="rId1"/>
          <a:stretch/>
        </p:blipFill>
        <p:spPr>
          <a:xfrm>
            <a:off x="4175280" y="0"/>
            <a:ext cx="4968720" cy="328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dust-02"/>
          <p:cNvPicPr/>
          <p:nvPr/>
        </p:nvPicPr>
        <p:blipFill>
          <a:blip r:embed="rId2"/>
          <a:stretch/>
        </p:blipFill>
        <p:spPr>
          <a:xfrm>
            <a:off x="0" y="3286080"/>
            <a:ext cx="5356080" cy="35719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5500800" y="3714840"/>
            <a:ext cx="3643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bd8ff"/>
                </a:solidFill>
                <a:latin typeface="Arial"/>
              </a:rPr>
              <a:t>Вред домашней пыли не стоит недооценивать. Пыль усугубляет течение астмы и пагубно воздействует на обострение аллерг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7:44:48Z</dcterms:created>
  <dc:creator>SamLab.ws</dc:creator>
  <dc:description/>
  <dc:language>en-US</dc:language>
  <cp:lastModifiedBy>Admin</cp:lastModifiedBy>
  <dcterms:modified xsi:type="dcterms:W3CDTF">2012-01-30T18:51:35Z</dcterms:modified>
  <cp:revision>9</cp:revision>
  <dc:subject/>
  <dc:title>Слайд 1</dc:title>
</cp:coreProperties>
</file>